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5AB3B-B57D-4CBA-BA8D-E3A13DC83B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80E24-7006-4225-B8EF-E51DAE278D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68942-EBEB-4602-ABFE-7BE258CAD6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22480" y="92088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68240" y="4944600"/>
            <a:ext cx="517536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baseline="30000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3747960" y="449280"/>
            <a:ext cx="18748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737280" y="4557600"/>
            <a:ext cx="119880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7E54-B388-44E3-84BF-43DC015A6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B3F9-BF8B-4CE9-8E5D-9773A6C85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0822-10AE-4647-AD73-857177342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5830-FE85-4E24-A34E-DD94F0BEC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ED353-58A2-4C73-A819-FAEF63AF9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8964F-02BB-4E21-B6DB-E92F33DEF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80B56-A9C5-405F-96E5-01DE567A2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FB163-6007-4F36-A45C-32A5CB8C7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7D103-4A08-4C1A-A0C6-03C658203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81D21-6954-467A-B8B9-9EE2FEB6A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2B140-3CE3-4C20-8466-330140E8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49AD-CCD2-4AED-972F-B873212A9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650C2-1EFF-4231-8934-647C1DE6B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1FD41-1BF6-46FD-839C-549D257DB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FBFE1-3F35-4B45-B667-0CF901C4C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6395E-9313-4F58-B8D9-C02CF136E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00502-4599-435F-957A-F9078BC39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1645A4-BA17-4F0B-B693-FF9D316C6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0DDA1D-6192-4F4D-A518-82D8A687D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CAFEA2-B219-45B4-B0F4-0B4A3DBB3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ACB4C2-4111-4B3D-AFAD-A74680342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6F5492-4B96-42EA-81DB-E49250AFA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22A4-853D-4641-AA9E-09DFE2DD4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6B20D1-BB91-44FB-9D28-B550F2F62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843ED1-9B94-440E-8710-7CA474F6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7B1345-8ABC-428C-955C-8DB5DAE94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B05429-4F5C-4E7F-91C5-BFF515CC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C7D53A-C17E-4793-BC4E-D76B9B0A0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DD46C7-3A33-4441-81CE-88FDE62D3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0E0595-C90A-4E08-AA99-E92CB203C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CA13-E664-4493-8D0C-F6CFA2621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505B-35A7-44B2-AA6D-2860746E3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7857-4B7B-4224-B433-CB56DD3F8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3832-9733-4C73-B795-939051D9A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D1DB-ECA6-40FA-A7D7-F08D290B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4DDE-06CE-473C-BF61-E4838C9C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e"/>
            </a:gs>
            <a:gs pos="100000">
              <a:srgbClr val="0000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19846-24BE-4696-92EF-262554A8F2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e"/>
            </a:gs>
            <a:gs pos="100000">
              <a:srgbClr val="0000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6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8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6BF6B-47AC-49FE-A709-9DEEEF690E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e"/>
            </a:gs>
            <a:gs pos="100000">
              <a:srgbClr val="0000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3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7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9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6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69794-B9BF-4167-B454-609C6E633C6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14.jpeg"/><Relationship Id="rId13" Type="http://schemas.openxmlformats.org/officeDocument/2006/relationships/image" Target="../media/image15.jpeg"/><Relationship Id="rId14" Type="http://schemas.openxmlformats.org/officeDocument/2006/relationships/image" Target="../media/image16.jpe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30000" y="456840"/>
            <a:ext cx="584676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филактика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студных заболев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30000" y="3580920"/>
            <a:ext cx="8513640" cy="22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кция разработана заведующей ОР и ВПП и ОМ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ГБУЗ КО «Калужский областной центр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едицинской профилактики»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Э.Б. Угаров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683FC-CEDD-44F2-9EC8-9A20CF4AF3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Содержимое 7" descr="C:\Users\User\Documents\ИВЛЕВ\РОЗ\Логотип\Логотип2.jpg"/>
          <p:cNvPicPr/>
          <p:nvPr/>
        </p:nvPicPr>
        <p:blipFill>
          <a:blip r:embed="rId1"/>
          <a:srcRect l="28798" t="38920" r="27813" b="41841"/>
          <a:stretch/>
        </p:blipFill>
        <p:spPr>
          <a:xfrm>
            <a:off x="6705720" y="838080"/>
            <a:ext cx="19047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7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0" y="-152280"/>
          <a:ext cx="9220320" cy="7073640"/>
        </p:xfrm>
        <a:graphic>
          <a:graphicData uri="http://schemas.openxmlformats.org/drawingml/2006/table">
            <a:tbl>
              <a:tblPr/>
              <a:tblGrid>
                <a:gridCol w="1143000"/>
                <a:gridCol w="4495680"/>
                <a:gridCol w="3581640"/>
              </a:tblGrid>
              <a:tr h="33516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итам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родук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.. растительного происхожд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.. животного происхожд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82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А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орковь, цитрусовые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Сливочное масло, сыр, яйца, печень, рыбий жир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76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Бета-каротин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орковь, петрушка, шпинат, весенняя зелень, дыня, помидоры, спаржа, капуста, брокколи, абрикосы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20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тиамин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Сухие пивные дрожжи, проростки пшеницы, овес, орехи (фундук)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Свинина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76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</a:t>
                      </a:r>
                      <a:r>
                        <a:rPr b="1" lang="ru-RU" sz="1600" spc="-1" strike="noStrike" baseline="-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ибо-флавин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рожжевой экстракт, проростки пшеницы, отруби пшеницы, соевые бобы, капуста брокколи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ечень, яичный желток, сыр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8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</a:t>
                      </a:r>
                      <a:r>
                        <a:rPr b="1" lang="ru-RU" sz="1600" spc="-1" strike="noStrike" baseline="-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рожжи, бобовые, грибы, рис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ечень, мясные субпродукты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8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</a:t>
                      </a:r>
                      <a:r>
                        <a:rPr b="1" lang="ru-RU" sz="1600" spc="-1" strike="noStrike" baseline="-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роростки и отруби пшеницы, зеленые лиственные овощи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ясо, печень, рыба, молоко, яйца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65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 </a:t>
                      </a:r>
                      <a:r>
                        <a:rPr b="1" lang="ru-RU" sz="16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фо-лиевая кислота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Орехи, зеленые лиственные овощи, бобы, проростки пшеницы, бананы, апельсины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Яйца, мясные субпродукты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8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</a:t>
                      </a:r>
                      <a:r>
                        <a:rPr b="1" lang="ru-RU" sz="1600" spc="-1" strike="noStrike" baseline="-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2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рожжи, морские водоросли 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ечень, почки, икра, яйца, сыр, молоко, творог, мясо, рыба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76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С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Шиповник, болгарский перец, цитрусовые, зелень, черная смородина, разные сорта капусты, земляника, щавель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82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олоко, яйца, рыба, рыбий жир, печень треск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13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03195-1888-4819-85F0-37D32F6A9B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7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период подъема сезонной заболеваемости на столе для всех членов семьи рекомендуется поставить кувшин с настоем, отваром шиповника – настоящим кладезем витамина 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орячий чай с имбирем – незаменимый напиток и в стужу, и в эпидеми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лезны любые витаминные напитки: свежевыжатые соки, чаи, морсы, компоты, кисе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льзя забывать о ягодах, заготовленных на зиму (лучше в замороженном виде). Наша чудесная ягода – клюква не даст заболеть никакой простудой, так как она содержит  парааминобензойную кислоту, разрушающую вирусы любых простудных заболев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9F14A-0EA7-433C-BABF-DFED818AF4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7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Большое значение необходимо уделять продуктам, содержащим антиоксиданты, которые защищают наш организм от вредного влияния среды. К природным антиоксидантам относятся:  черника, чернослив, изюм, курага, земляника, цитрусовые, персики,  абрикосы, арбузы и другие ягоды и фрукты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Нельзя скидывать со счетов и синтетические витаминные и антиоксидантные комплексы, которые включают витамины - А, С, Е и микроэлементы – селен, цинк и мед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Нельзя забывать, что в питании главное не переусердствовать. Необходимо знать меру,  учитывать возможности организма и наличие заболев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700A8-DCB7-484C-9331-099046CCAD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00"/>
            </a:gs>
            <a:gs pos="100000">
              <a:srgbClr val="f0e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d4d4d"/>
                </a:solidFill>
                <a:latin typeface="Arial"/>
              </a:rPr>
              <a:t>Укрепить иммунную систему поможет и умеренная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физическая активность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В период сезонных вспышек простуды лучше ходить пешком и не только потому, что мы чаще заражаемся в транспорте, но и в связи с тем, что максимально активизировать обмен веществ и защитные силы организма поможет только физическая актив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Регулярная утренняя и производственная гимнастика (каждая не менее 15 минут) принесут огромную пользу. В отличие от спорта, физкультура очень хорошо влияет на иммунную систему – тренирует кровоток, выводит продукты распада, усиливает восстановительные процессы, не дает молочной кислоте скапливаться в организ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F0042-CB45-4A6E-82DC-AFF25D8375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00"/>
            </a:gs>
            <a:gs pos="100000">
              <a:srgbClr val="f0e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Детям рекомендуется ежедневна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ыхательная гимнастика</a:t>
            </a: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, которая тренирует дыхательную систему, учит ребенка правильно дышать,  повышает  иммунитет респираторного трак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Для дошкольников существует специально разработанная звуковая дыхательная гимнастика, позволяющая выработать правильное диафрагмально – релаксационное дыхание (соотношение вдоха и выдоха 1: 2, 1: 3, 1: 4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Дети, умеющие правильно дышать, болеют в 2 – 3 раза реже детей, которым не поставлено правильное дых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Важно не  переутомляться, помнить, что физические упражнения должны приносить удовольств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7C27C-0852-48BC-AEE2-89D65DC1E2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00"/>
            </a:gs>
            <a:gs pos="100000">
              <a:srgbClr val="f0e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456840" y="990720"/>
            <a:ext cx="79246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В комплекс профилактических мероприятий целесообразно включать </a:t>
            </a:r>
            <a:r>
              <a:rPr b="1" lang="ru-RU" sz="2400" spc="-1" strike="noStrike">
                <a:solidFill>
                  <a:srgbClr val="4d4d4d"/>
                </a:solidFill>
                <a:latin typeface="Arial"/>
              </a:rPr>
              <a:t>массаж</a:t>
            </a: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 и </a:t>
            </a:r>
            <a:r>
              <a:rPr b="1" lang="ru-RU" sz="2400" spc="-1" strike="noStrike">
                <a:solidFill>
                  <a:srgbClr val="4d4d4d"/>
                </a:solidFill>
                <a:latin typeface="Arial"/>
              </a:rPr>
              <a:t>самомассаж</a:t>
            </a: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 биологически активных зон и точек на лице, стопах, кистях, грудной клетке. Особенно эффективен самомассаж по Уманской. Профилактический массаж полезно делать с бальзамами и ароматическими масл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" descr=""/>
          <p:cNvPicPr/>
          <p:nvPr/>
        </p:nvPicPr>
        <p:blipFill>
          <a:blip r:embed="rId1"/>
          <a:srcRect l="3457" t="4980" r="3175" b="0"/>
          <a:stretch/>
        </p:blipFill>
        <p:spPr>
          <a:xfrm>
            <a:off x="990720" y="3429000"/>
            <a:ext cx="3581280" cy="268920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5"/>
          <p:cNvSpPr/>
          <p:nvPr/>
        </p:nvSpPr>
        <p:spPr>
          <a:xfrm>
            <a:off x="4800600" y="3733920"/>
            <a:ext cx="365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Детям рекомендуется утром и вечером растирать до ощущения жара ладошки,  стопы и ушные раков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BF30C-445B-4DC4-A031-C6920BECB8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В комплекс профилактических процедур в обязательном порядке входит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каливание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Закаливающие мероприятия необходимо проводить систематически, поэтапно, постепенно переходя от простых процедур к слож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Простыми и эффективными приемами закаливания являются: воздушные ванны, которые проводятся при температуре помещения от 23 до 18 градусов, продолжительностью от 10 до 30 – 40 минут. Полезно хождение по полу босиком, умывание холодной водой и полоскание носоглотки слабым раствором поваренной со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85EF4-87E4-49DF-95DD-09458376DA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гулярные закаливающие мероприятия особенно необходимы детям. Проводить их рекомендуется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с 2х недельного возраста, начиная с воздушных ван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После перенесенных заболеваний   вновь проводить закаливание, начиная от простых процедур, постепенно переходя к сложны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Детям экстремальные методики закаливания (хождение по снегу босиком, купание в проруби и др.) проводить опас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сухую, безветренную, не очень холодную погоду гулять с ребенком рекомендуется не менее 2 – 3</a:t>
            </a:r>
            <a:r>
              <a:rPr b="0" lang="ru-RU" sz="2400" spc="-1" strike="noStrike" u="sng" baseline="30000">
                <a:solidFill>
                  <a:srgbClr val="ffffff"/>
                </a:solidFill>
                <a:uFillTx/>
                <a:latin typeface="Arial"/>
              </a:rPr>
              <a:t>х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ча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Важно одевать ребенка по погоде. Дети, которых кутают, болеют значительно чащ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0154D-DB57-45ED-8C47-71217BC087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c33"/>
            </a:gs>
            <a:gs pos="100000">
              <a:srgbClr val="ffa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период эпидемии важно не  переутомляться, избегать психоэмоционального напряжения,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трессов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11111"/>
                </a:solidFill>
                <a:latin typeface="Arial"/>
              </a:rPr>
              <a:t>Рекомендуется чаще отдыхать, расслабляться, заниматься </a:t>
            </a:r>
            <a:r>
              <a:rPr b="1" lang="ru-RU" sz="2800" spc="-1" strike="noStrike">
                <a:solidFill>
                  <a:srgbClr val="111111"/>
                </a:solidFill>
                <a:latin typeface="Arial"/>
              </a:rPr>
              <a:t>аутотренингом</a:t>
            </a:r>
            <a:r>
              <a:rPr b="0" lang="ru-RU" sz="2800" spc="-1" strike="noStrike">
                <a:solidFill>
                  <a:srgbClr val="111111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11111"/>
                </a:solidFill>
                <a:latin typeface="Arial"/>
              </a:rPr>
              <a:t>Полезна </a:t>
            </a:r>
            <a:r>
              <a:rPr b="1" lang="ru-RU" sz="2800" spc="-1" strike="noStrike">
                <a:solidFill>
                  <a:srgbClr val="111111"/>
                </a:solidFill>
                <a:latin typeface="Arial"/>
              </a:rPr>
              <a:t>музыкотерапия</a:t>
            </a:r>
            <a:r>
              <a:rPr b="0" lang="ru-RU" sz="2800" spc="-1" strike="noStrike">
                <a:solidFill>
                  <a:srgbClr val="111111"/>
                </a:solidFill>
                <a:latin typeface="Arial"/>
              </a:rPr>
              <a:t> с положительной энергетикой (успокаивающая классическая музыка, шумы природы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11111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111111"/>
                </a:solidFill>
                <a:latin typeface="Arial"/>
              </a:rPr>
              <a:t>Поможет </a:t>
            </a:r>
            <a:r>
              <a:rPr b="1" lang="ru-RU" sz="2800" spc="-1" strike="noStrike">
                <a:solidFill>
                  <a:srgbClr val="111111"/>
                </a:solidFill>
                <a:latin typeface="Arial"/>
              </a:rPr>
              <a:t>ароматерапия</a:t>
            </a:r>
            <a:r>
              <a:rPr b="0" lang="ru-RU" sz="2800" spc="-1" strike="noStrike">
                <a:solidFill>
                  <a:srgbClr val="111111"/>
                </a:solidFill>
                <a:latin typeface="Arial"/>
              </a:rPr>
              <a:t>  - вдыхание ароматов масел можжевельника, чайного дерева, эвкалипта, цитрусов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11111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111111"/>
                </a:solidFill>
                <a:latin typeface="Arial"/>
              </a:rPr>
              <a:t>В эпидемию разумно носить аромамедальон, так как аромамасла защищают от инфекционного агента на площади более 3 м</a:t>
            </a:r>
            <a:r>
              <a:rPr b="0" lang="ru-RU" sz="2800" spc="-1" strike="noStrike" baseline="30000">
                <a:solidFill>
                  <a:srgbClr val="111111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B83FC-0642-40D1-A27F-833B7C9B1B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Специфическая профилак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99"/>
                </a:solidFill>
                <a:latin typeface="Arial"/>
              </a:rPr>
              <a:t>Вакцинация противогриппозной вакциной, которая должна проводиться не позже чем за 1,5-2 месяца до предполагаемой вспышки эпидемии, вакциной определенного штамма возбудителя гриппа: А, В, С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99"/>
                </a:solidFill>
                <a:latin typeface="Arial"/>
              </a:rPr>
              <a:t>Идеально, когда вакцинация (особенно детям) проводится после консультации и обследования иммунолог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99"/>
                </a:solidFill>
                <a:latin typeface="Arial"/>
              </a:rPr>
              <a:t>После острого заболевания, или обострения хронической патологии перед вакцинацией должно пройти не меньше 2-4 недель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99"/>
                </a:solidFill>
                <a:latin typeface="Arial"/>
              </a:rPr>
              <a:t>К любой вакцинации организм необходимо подготовить за две недели: пропить курс витаминов, адаптогенов, десенсибилизирующих препаратов с учетом рекомендаций врач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99"/>
                </a:solidFill>
                <a:latin typeface="Arial"/>
              </a:rPr>
              <a:t>После прививки необходимо две недели соблюдать щадящий режим, особенно детям и людям, страдающим хроническими заболеваниям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E8158-B8DB-4084-8F67-5DFD58ABA9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750744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e3e3ff"/>
                </a:solidFill>
                <a:latin typeface="Arial"/>
              </a:rPr>
              <a:t>Заболеть рискует каждый!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6148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России каждый год от 27 до 40 млн. заболевших   гриппом и  др. ОРВ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698400" y="6350040"/>
            <a:ext cx="8452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1371600" y="5257800"/>
            <a:ext cx="2068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аждый десятый взросл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7" descr="BottleMenatRisk"/>
          <p:cNvPicPr/>
          <p:nvPr/>
        </p:nvPicPr>
        <p:blipFill>
          <a:blip r:embed="rId1"/>
          <a:srcRect l="0" t="0" r="27538" b="0"/>
          <a:stretch/>
        </p:blipFill>
        <p:spPr>
          <a:xfrm>
            <a:off x="1447920" y="2743200"/>
            <a:ext cx="6476760" cy="2346480"/>
          </a:xfrm>
          <a:prstGeom prst="rect">
            <a:avLst/>
          </a:prstGeom>
          <a:ln w="12600">
            <a:solidFill>
              <a:srgbClr val="808000"/>
            </a:solidFill>
            <a:miter/>
          </a:ln>
        </p:spPr>
      </p:pic>
      <p:sp>
        <p:nvSpPr>
          <p:cNvPr id="179" name="Oval 8"/>
          <p:cNvSpPr/>
          <p:nvPr/>
        </p:nvSpPr>
        <p:spPr>
          <a:xfrm>
            <a:off x="4800600" y="5067720"/>
            <a:ext cx="2408400" cy="1165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ждый третий ребён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9"/>
          <p:cNvSpPr/>
          <p:nvPr/>
        </p:nvSpPr>
        <p:spPr>
          <a:xfrm>
            <a:off x="395280" y="1628640"/>
            <a:ext cx="82296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Номер слайда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0974B-740F-4A70-B71E-493AE3B16A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333399"/>
                </a:solidFill>
                <a:latin typeface="Arial"/>
              </a:rPr>
              <a:t>Неспецифическая медикаментозная профилактика простудных заболеваний предусматривает назначение </a:t>
            </a:r>
            <a:r>
              <a:rPr b="1" lang="ru-RU" sz="2500" spc="-1" strike="noStrike">
                <a:solidFill>
                  <a:srgbClr val="333399"/>
                </a:solidFill>
                <a:latin typeface="Arial"/>
              </a:rPr>
              <a:t>иммуномодулирующих</a:t>
            </a:r>
            <a:r>
              <a:rPr b="0" lang="ru-RU" sz="2500" spc="-1" strike="noStrike">
                <a:solidFill>
                  <a:srgbClr val="333399"/>
                </a:solidFill>
                <a:latin typeface="Arial"/>
              </a:rPr>
              <a:t> и </a:t>
            </a:r>
            <a:r>
              <a:rPr b="1" lang="ru-RU" sz="2500" spc="-1" strike="noStrike">
                <a:solidFill>
                  <a:srgbClr val="333399"/>
                </a:solidFill>
                <a:latin typeface="Arial"/>
              </a:rPr>
              <a:t>иммуностимулирующих препаратов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режде чем вторгаться в работу этой сложной защитной системы, нужно все хорошо взвеси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Сегодня нарушения иммунитета имеют  около 5% людей. Таким пациентам иммуностимуляторы назначаются обоснован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В отношении остальных 95% людей - главная задача ничем не нарушить работу иммунной системы, которая является тонким инструментом, созданным природ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Одна из главных обязанностей иммунитета – регулировать рост клеток в нужных местах и в нужных количествах. Любое неосторожное воздействие извне может привести к иммунной ошибке (сбою), к непомерному разрастанию клеток в одном месте. Так появляются новообразования, и не всегда доброкачественные. Поэтому иммуностимулирующие и иммуномодулирующие препараты должен назначать врач иммунолог после соответствующего обслед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Медикаментозные препараты не рекомендуется самостоятельно применять не только для лечения, но и для профилактики простудных заболев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B0536-CE7A-43AC-9EB0-54DB467009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0" name="Object 2"/>
          <p:cNvGraphicFramePr/>
          <p:nvPr/>
        </p:nvGraphicFramePr>
        <p:xfrm>
          <a:off x="430200" y="1104840"/>
          <a:ext cx="8713800" cy="575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0200" y="1104840"/>
                    <a:ext cx="8713800" cy="57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Rectangle 3"/>
          <p:cNvSpPr/>
          <p:nvPr/>
        </p:nvSpPr>
        <p:spPr>
          <a:xfrm>
            <a:off x="4481640" y="3365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304920" y="0"/>
            <a:ext cx="8610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тивовирусные препараты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ценное дополнение к вакцин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8D219-1628-482C-B0DA-326D84E1DA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5" name="Object 2"/>
          <p:cNvGraphicFramePr/>
          <p:nvPr/>
        </p:nvGraphicFramePr>
        <p:xfrm>
          <a:off x="762120" y="0"/>
          <a:ext cx="76960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0"/>
                    <a:ext cx="76960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WordArt 3"/>
          <p:cNvSpPr txBox="1"/>
          <p:nvPr/>
        </p:nvSpPr>
        <p:spPr>
          <a:xfrm>
            <a:off x="1066680" y="4495680"/>
            <a:ext cx="6858000" cy="17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cc"/>
                  </a:solidFill>
                  <a:miter/>
                </a:ln>
                <a:solidFill>
                  <a:srgbClr val="6699ff">
                    <a:alpha val="99000"/>
                  </a:srgbClr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ffffcc"/>
                </a:solidFill>
                <a:miter/>
              </a:ln>
              <a:solidFill>
                <a:srgbClr val="6699ff">
                  <a:alpha val="99000"/>
                </a:srgbClr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8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3ADFE-E5A1-4D86-B885-E556BF3E3A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4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4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4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4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?attid=0"/>
          <p:cNvPicPr/>
          <p:nvPr/>
        </p:nvPicPr>
        <p:blipFill>
          <a:blip r:embed="rId1"/>
          <a:stretch/>
        </p:blipFill>
        <p:spPr>
          <a:xfrm>
            <a:off x="4038480" y="2666880"/>
            <a:ext cx="1792440" cy="11574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?attid=0"/>
          <p:cNvPicPr/>
          <p:nvPr/>
        </p:nvPicPr>
        <p:blipFill>
          <a:blip r:embed="rId2"/>
          <a:stretch/>
        </p:blipFill>
        <p:spPr>
          <a:xfrm>
            <a:off x="2209680" y="4038480"/>
            <a:ext cx="1800360" cy="11955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?attid=0"/>
          <p:cNvPicPr/>
          <p:nvPr/>
        </p:nvPicPr>
        <p:blipFill>
          <a:blip r:embed="rId3"/>
          <a:stretch/>
        </p:blipFill>
        <p:spPr>
          <a:xfrm>
            <a:off x="8077320" y="5334120"/>
            <a:ext cx="761760" cy="1149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?attid=0"/>
          <p:cNvPicPr/>
          <p:nvPr/>
        </p:nvPicPr>
        <p:blipFill>
          <a:blip r:embed="rId4"/>
          <a:stretch/>
        </p:blipFill>
        <p:spPr>
          <a:xfrm>
            <a:off x="2133720" y="2666880"/>
            <a:ext cx="1730160" cy="1187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?attid=0"/>
          <p:cNvPicPr/>
          <p:nvPr/>
        </p:nvPicPr>
        <p:blipFill>
          <a:blip r:embed="rId5"/>
          <a:stretch/>
        </p:blipFill>
        <p:spPr>
          <a:xfrm>
            <a:off x="6781680" y="5334120"/>
            <a:ext cx="1150920" cy="11523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?attid=0"/>
          <p:cNvPicPr/>
          <p:nvPr/>
        </p:nvPicPr>
        <p:blipFill>
          <a:blip r:embed="rId6"/>
          <a:stretch/>
        </p:blipFill>
        <p:spPr>
          <a:xfrm>
            <a:off x="4952880" y="5334120"/>
            <a:ext cx="1800360" cy="11635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8" descr="?attid=0"/>
          <p:cNvPicPr/>
          <p:nvPr/>
        </p:nvPicPr>
        <p:blipFill>
          <a:blip r:embed="rId7"/>
          <a:stretch/>
        </p:blipFill>
        <p:spPr>
          <a:xfrm>
            <a:off x="7467480" y="2514600"/>
            <a:ext cx="1440000" cy="7318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9" descr="?attid=0"/>
          <p:cNvPicPr/>
          <p:nvPr/>
        </p:nvPicPr>
        <p:blipFill>
          <a:blip r:embed="rId8"/>
          <a:stretch/>
        </p:blipFill>
        <p:spPr>
          <a:xfrm>
            <a:off x="3124080" y="5334120"/>
            <a:ext cx="1729080" cy="11541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0" descr="?attid=0"/>
          <p:cNvPicPr/>
          <p:nvPr/>
        </p:nvPicPr>
        <p:blipFill>
          <a:blip r:embed="rId9"/>
          <a:stretch/>
        </p:blipFill>
        <p:spPr>
          <a:xfrm>
            <a:off x="4191120" y="4267080"/>
            <a:ext cx="1417680" cy="9464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1" descr="?attid=0"/>
          <p:cNvPicPr/>
          <p:nvPr/>
        </p:nvPicPr>
        <p:blipFill>
          <a:blip r:embed="rId10"/>
          <a:stretch/>
        </p:blipFill>
        <p:spPr>
          <a:xfrm>
            <a:off x="304920" y="2666880"/>
            <a:ext cx="1670040" cy="11667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2" descr="?attid=0"/>
          <p:cNvPicPr/>
          <p:nvPr/>
        </p:nvPicPr>
        <p:blipFill>
          <a:blip r:embed="rId11"/>
          <a:stretch/>
        </p:blipFill>
        <p:spPr>
          <a:xfrm>
            <a:off x="2133720" y="5334120"/>
            <a:ext cx="950760" cy="11523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3" descr="13chomga1"/>
          <p:cNvPicPr/>
          <p:nvPr/>
        </p:nvPicPr>
        <p:blipFill>
          <a:blip r:embed="rId12"/>
          <a:stretch/>
        </p:blipFill>
        <p:spPr>
          <a:xfrm>
            <a:off x="304920" y="3962520"/>
            <a:ext cx="1584360" cy="11919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?attid=0"/>
          <p:cNvPicPr/>
          <p:nvPr/>
        </p:nvPicPr>
        <p:blipFill>
          <a:blip r:embed="rId13"/>
          <a:stretch/>
        </p:blipFill>
        <p:spPr>
          <a:xfrm>
            <a:off x="380880" y="5410080"/>
            <a:ext cx="1656000" cy="11462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5" descr="DSC01907"/>
          <p:cNvPicPr/>
          <p:nvPr/>
        </p:nvPicPr>
        <p:blipFill>
          <a:blip r:embed="rId14"/>
          <a:stretch/>
        </p:blipFill>
        <p:spPr>
          <a:xfrm>
            <a:off x="6019920" y="3276720"/>
            <a:ext cx="2952720" cy="189072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16"/>
          <p:cNvSpPr/>
          <p:nvPr/>
        </p:nvSpPr>
        <p:spPr>
          <a:xfrm>
            <a:off x="228600" y="228600"/>
            <a:ext cx="8458200" cy="22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Вирусов из –за которых мы кашляем и чихаем насчитывается более 250. Определить какой из них циркулирует в организме трудно, да и не нужно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Основные носители вируса гриппа в природе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2FD43-9472-4D7F-9CC5-0C4F2BFFF2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Главное знать,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как уберечься от просту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4173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Существуют понятия неспецифической  и специфической профилактики (иммунизация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специфическая профилактик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укрепление иммунной системы организ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уществует четыре основных правила укрепления иммунитета в период подъема простудных заболеван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высыпать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хорошо питать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ежедневно заниматься гимнастик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исключить все лишние нагруз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B4598-5A2E-410C-9D30-3FAE439AE2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Важно помнить, чт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лноценный сон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это не только лучшее лекарство, но и  надежный метод  профилактики простудных заболеваний, как для детей, так и для взросл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Хронически недосыпающие люди значительно чаще и тяжелее болеют. Сон взрослого человека в настоящее время должен быть не менее 7 – 8 часов, ребенка, в зависимости от возраста - 9 – 10 ча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В период подъема сезонной заболеваемости и эпидемии гриппа рекомендуется обязательный дневной сон (отдых) 40 – 60 м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Сон должен быть не только нормальным по продолжительности, но и полноцен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CF8FE-6FF3-4381-B8BD-A8BBDA9201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ыстрее и крепче заснуть помогут хорошо проветренное помещение, особенно если в комнате долго работал телевизор  и компьютер, жесткая постель с низкой подушкой, не согревающей голову (из лузги гречихи, бамбуковой, синтетической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мой лучшей в эпидемию гриппа считается можжевеловая подушка, так как аромат можжевельника великолепно очищает от инфекции дыхательные пути и является хорошим релаксантом (успокаивает, расслабляет организм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C0DE0-09FE-4C79-A1A9-B3B85D109A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Тем, кто тяжело засыпает, у кого беспокойный поверхностный сон поможет</a:t>
            </a:r>
            <a:br>
              <a:rPr sz="2700"/>
            </a:b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 комплекс простых мероприятий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принять перед сном комфортный душ, или просто вымыть ноги, обязательно провести гигиену полости рт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ужинать за 2 часа до сна, ужин должен быть легким, предпочтительнее тушеные овощи  и отварная рыба, перед сном рекомендуется теплое молоко с медом, или теплый кефир с отрубям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полезно перед сном провести ароматерапию, с использованием масел лаванды и розы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ложиться спать необходимо в одно и тоже врем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за 30 – 40 минут до сна необходимо заканчивать просмотр ТВ и работу за компьютером и проводить определенный, выбранный индивидуально для каждого ритуа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A1033-6E89-45FE-AABC-F9F1C06223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7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Огромную роль в период подъема сезонной заболеваемости и эпидемии гриппа играет рационально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балансированное питание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Важно знать, что в период повышенной заболеваемости нельзя ограничивать питание и применять различные диеты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В зимнее время года питание должно быть сбалансированным, разнообразным, витаминизированным и регулярным.  Калорийность рациона  должна быть значительно выше, чем в летнее вре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В рационе питания необходимы рыба, морепродукты, мясо, сливочное и растительное масло, крупы и злаки, молочные продукты, яйца, мед и орехи. </a:t>
            </a:r>
            <a:br>
              <a:rPr sz="2400"/>
            </a:b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В умеренном количестве в период эпидемии можно употреблять  и са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2ACD0-D7DA-4F2B-8F3E-48DBBD83F8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7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обое значение в этот период имеют пряности: имбирь, перцы, куркума, чеснок, лук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се душистое – это фитонциды, антисептики, очищающие кровь от микроб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Еда должна стать лекарст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итамины, содержащиеся в продуктах  растительного и животного происхождения, особенно необходимы для активизации защитных сил организ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A632E-FF2D-4F45-B185-1E7102B6C4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cp:lastPrinted>2016-09-28T06:55:20Z</cp:lastPrinted>
  <dcterms:modified xsi:type="dcterms:W3CDTF">2016-10-13T09:10:51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